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9D7-FCE9-44FB-9511-003E4F60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47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68E-9F9F-4C5F-A7B7-DC28092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F6C-1FCC-4A3E-BBA6-AB063EB2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D4C-747C-4434-BA50-215EFF09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9D7-1438-4342-89EB-A8B69DDC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47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47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6C1-6BF1-45D6-9930-93E583F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92B-1054-4C43-B6BB-1416DFAA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A73-0BAF-4681-A0E8-4326723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B76-00A8-4E23-AC8B-181A5D1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64A-8245-4E75-BCAE-9A4A3F1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47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5E1-A0DE-447A-B061-CE80EA9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47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A6E-64CF-4B5C-A72C-B39BAD5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9aa"/>
                </a:solidFill>
                <a:latin typeface="ScalaSansLF-Regular"/>
              </a:rPr>
              <a:t>Click to edit the title text format</a:t>
            </a: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9aa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Click to edit the outline text format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econd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Third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Four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Fif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ix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even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calaSansLF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91C-3A0A-4F7C-B0DF-21077065442F}" type="slidenum">
              <a:rPr b="0" lang="en-US" sz="1200" spc="-1" strike="noStrike">
                <a:solidFill>
                  <a:srgbClr val="000000"/>
                </a:solidFill>
                <a:latin typeface="ScalaSansLF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5" name="Line 12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89a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pic>
        <p:nvPicPr>
          <p:cNvPr id="6" name="Picture 13" descr="Pot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</p:spPr>
      </p:pic>
      <p:sp>
        <p:nvSpPr>
          <p:cNvPr id="7" name="Line 14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9360">
            <a:solidFill>
              <a:srgbClr val="0089a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DSC_0834bew"/>
          <p:cNvPicPr/>
          <p:nvPr/>
        </p:nvPicPr>
        <p:blipFill>
          <a:blip r:embed="rId2"/>
          <a:stretch/>
        </p:blipFill>
        <p:spPr>
          <a:xfrm>
            <a:off x="0" y="666720"/>
            <a:ext cx="9144000" cy="6191280"/>
          </a:xfrm>
          <a:prstGeom prst="rect">
            <a:avLst/>
          </a:prstGeom>
          <a:ln w="0">
            <a:noFill/>
          </a:ln>
        </p:spPr>
      </p:pic>
      <p:sp>
        <p:nvSpPr>
          <p:cNvPr id="45" name="Line 12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12600">
            <a:solidFill>
              <a:srgbClr val="0089a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pic>
        <p:nvPicPr>
          <p:cNvPr id="46" name="Picture 14" descr="Pot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</p:spPr>
      </p:pic>
      <p:sp>
        <p:nvSpPr>
          <p:cNvPr id="47" name="Line 16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2600">
            <a:solidFill>
              <a:srgbClr val="0089a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9aa"/>
                </a:solidFill>
                <a:latin typeface="ScalaSansLF-Regular"/>
              </a:rPr>
              <a:t>Click to edit the title text format</a:t>
            </a:r>
            <a:endParaRPr b="0" lang="en-US" sz="40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9aa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Click to edit the outline text format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econd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Third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Four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Fif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ix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calaSansLF-Regular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9aa"/>
                </a:solidFill>
                <a:latin typeface="ScalaSansLF-Regular"/>
              </a:rPr>
              <a:t>Seventh Outline Level</a:t>
            </a:r>
            <a:endParaRPr b="0" lang="en-US" sz="2800" spc="-1" strike="noStrike">
              <a:solidFill>
                <a:srgbClr val="0089aa"/>
              </a:solidFill>
              <a:latin typeface="ScalaSansLF-Regular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2280" y="62485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2e4c"/>
                </a:solidFill>
                <a:latin typeface="ScalaSansLF-Regular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2e4c"/>
                </a:solidFill>
                <a:latin typeface="ScalaSansLF-Regular"/>
              </a:rPr>
              <a:t>﻿</a:t>
            </a:r>
            <a:r>
              <a:rPr b="0" lang="en-US" sz="1400" spc="-1" strike="noStrike">
                <a:solidFill>
                  <a:srgbClr val="092e4c"/>
                </a:solidFill>
                <a:latin typeface="ScalaSansLF-Regular"/>
              </a:rPr>
              <a:t>Jozef Guislainstraat 43 a </a:t>
            </a:r>
            <a:r>
              <a:rPr b="0" lang="en-US" sz="1800" spc="-1" strike="noStrike">
                <a:solidFill>
                  <a:srgbClr val="0089aa"/>
                </a:solidFill>
                <a:latin typeface="ScalaSansLF-Regular"/>
              </a:rPr>
              <a:t>|</a:t>
            </a:r>
            <a:r>
              <a:rPr b="0" lang="en-US" sz="1800" spc="-1" strike="noStrike">
                <a:solidFill>
                  <a:srgbClr val="092e4c"/>
                </a:solidFill>
                <a:latin typeface="ScalaSansLF-Regular"/>
              </a:rPr>
              <a:t> </a:t>
            </a:r>
            <a:r>
              <a:rPr b="0" lang="en-US" sz="1400" spc="-1" strike="noStrike">
                <a:solidFill>
                  <a:srgbClr val="092e4c"/>
                </a:solidFill>
                <a:latin typeface="ScalaSansLF-Regular"/>
              </a:rPr>
              <a:t>9000 Gent </a:t>
            </a:r>
            <a:r>
              <a:rPr b="0" lang="en-US" sz="1800" spc="-1" strike="noStrike">
                <a:solidFill>
                  <a:srgbClr val="0089aa"/>
                </a:solidFill>
                <a:latin typeface="ScalaSansLF-Regular"/>
              </a:rPr>
              <a:t>|</a:t>
            </a:r>
            <a:r>
              <a:rPr b="0" lang="en-US" sz="1400" spc="-1" strike="noStrike">
                <a:solidFill>
                  <a:srgbClr val="092e4c"/>
                </a:solidFill>
                <a:latin typeface="ScalaSansLF-Regular"/>
              </a:rPr>
              <a:t> Tel 09 210 87 10 </a:t>
            </a:r>
            <a:r>
              <a:rPr b="0" lang="en-US" sz="1800" spc="-1" strike="noStrike">
                <a:solidFill>
                  <a:srgbClr val="0089aa"/>
                </a:solidFill>
                <a:latin typeface="ScalaSansLF-Regular"/>
              </a:rPr>
              <a:t>|</a:t>
            </a:r>
            <a:r>
              <a:rPr b="0" lang="en-US" sz="1400" spc="-1" strike="noStrike">
                <a:solidFill>
                  <a:srgbClr val="092e4c"/>
                </a:solidFill>
                <a:latin typeface="ScalaSansLF-Regular"/>
              </a:rPr>
              <a:t> Fax 09 272 86 11 </a:t>
            </a:r>
            <a:r>
              <a:rPr b="0" lang="en-US" sz="1800" spc="-1" strike="noStrike">
                <a:solidFill>
                  <a:srgbClr val="0089aa"/>
                </a:solidFill>
                <a:latin typeface="ScalaSansLF-Regular"/>
              </a:rPr>
              <a:t>| </a:t>
            </a:r>
            <a:r>
              <a:rPr b="0" lang="en-US" sz="1400" spc="-1" strike="noStrike">
                <a:solidFill>
                  <a:srgbClr val="0089aa"/>
                </a:solidFill>
                <a:latin typeface="ScalaSansLF-Regular"/>
              </a:rPr>
              <a:t>www.desleutel.be</a:t>
            </a:r>
            <a:endParaRPr b="0" lang="en-US" sz="14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50920" y="1268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Ga je al of niet akkoord met de volgende stellingen. Kies je kleur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98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en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420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Wie drugs gebruikt heeft geen karakter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6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38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In het toneelstuk kwam een ernstig maatschappelijk probleem aan het licht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18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393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Experimenteren met drugs is gewoon dikke fun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230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757080" y="1125360"/>
            <a:ext cx="7775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41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Het hoofdpersonage is typisch iemand die zijn verantwoordelijkheid niet wil zien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0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38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Het grootste probleem van het hoofdpersonage is dat hij drugs gebruikt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2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000000"/>
                </a:solidFill>
                <a:latin typeface="ScalaSansLF-Regular"/>
              </a:rPr>
              <a:t>f</a:t>
            </a: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en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1197000"/>
            <a:ext cx="777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438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Zolang niemand anders er last van heeft, moet het hoofdpersonage maar doen waar hij zin in heeft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393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Laura had al veel vroeger moeten weggaan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6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84360" y="1197000"/>
            <a:ext cx="777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438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Laura is gevlucht terwijl ze het hoofdpersonage had kunnen helpen. Ze heeft hem in de steek gelaten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58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84360" y="1197000"/>
            <a:ext cx="777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438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Laura is mee verantwoordelijk: zij heeft hem er mee toe aangezet om drugs te gebruiken.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0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393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Drugs gebruiken is een manier om te tonen dat je anders bent. 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2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600200" y="3200400"/>
            <a:ext cx="7621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600200" y="3886200"/>
            <a:ext cx="7621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600200" y="44956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600200" y="51055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600200" y="571500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819520" y="3200400"/>
            <a:ext cx="4038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819520" y="3809880"/>
            <a:ext cx="4038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k weet het niet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819520" y="5105520"/>
            <a:ext cx="40384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Niet akkoord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819520" y="571500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Helemaal niet akkoord </a:t>
            </a:r>
            <a:endParaRPr b="0" lang="en-US" sz="24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84360" y="1197000"/>
            <a:ext cx="77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38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31251"/>
                </a:solidFill>
                <a:latin typeface="ScalaSansLF-Regular"/>
                <a:ea typeface="Times New Roman"/>
              </a:rPr>
              <a:t>Drugs gebruiken is niet zo erg, zolang je het maar onder controle hebt.</a:t>
            </a:r>
            <a:endParaRPr b="0" lang="en-US" sz="3200" spc="-1" strike="noStrike">
              <a:solidFill>
                <a:srgbClr val="000000"/>
              </a:solidFill>
              <a:latin typeface="ScalaSansLF-Regular"/>
            </a:endParaRPr>
          </a:p>
        </p:txBody>
      </p:sp>
      <p:sp>
        <p:nvSpPr>
          <p:cNvPr id="194" name="Tekstvak 1"/>
          <p:cNvSpPr/>
          <p:nvPr/>
        </p:nvSpPr>
        <p:spPr>
          <a:xfrm>
            <a:off x="262728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ScalaSansLF-Regular"/>
              </a:rPr>
              <a:t>Stelling bij Trip</a:t>
            </a:r>
            <a:endParaRPr b="0" lang="en-US" sz="4800" spc="-1" strike="noStrike">
              <a:solidFill>
                <a:srgbClr val="000000"/>
              </a:solidFill>
              <a:latin typeface="ScalaSansLF-Regula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4:36:58Z</dcterms:created>
  <dc:creator>dnevep</dc:creator>
  <dc:description/>
  <dc:language>en-US</dc:language>
  <cp:lastModifiedBy>Van de Walle, Johan</cp:lastModifiedBy>
  <dcterms:modified xsi:type="dcterms:W3CDTF">2014-05-22T14:50:54Z</dcterms:modified>
  <cp:revision>191</cp:revision>
  <dc:subject/>
  <dc:title>PowerPoint-presentatie</dc:title>
</cp:coreProperties>
</file>